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878C-E40D-4FE0-847D-DC822C7A4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DB06-B090-4436-90A4-B05C7EB1E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C88B-3C6B-472F-9E5B-C7B11FBED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709-00A9-45C6-B34A-2A8E5DD70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5A983-3D76-4C58-B936-EAE0EA76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9A635-6ABC-49F7-9A95-A5DBE301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9913-3C7D-4C64-84A6-EFED6C71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7E01E-0236-44B6-8D31-38450848F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9631-5E15-4846-B402-CAAA32811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94225-6B15-43A4-9048-53FBC6818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511B6-2AEB-4ECD-8B93-1ECD3E18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B3AD-E291-48EA-8A48-BB812B61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0F30E-829F-49CF-B016-67FC72C3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5EE4-F1B8-42FB-B698-01F89BD67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0423-DF98-4BC6-8614-B7E960C8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45EE-32B8-42A9-B99C-3F4B15DC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2163-33B6-4B8D-8800-EFEAFBDB1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EE9-20CB-4237-B25C-5C3B2C70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EC76-60AC-49D3-864A-41054F02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738A-A870-4A0D-ADF6-04166C78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BB3C-68F7-4FE0-B9CC-22FA440A8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DDB8-B694-4908-993D-3ECC7031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449-F389-454C-B297-41EEE833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737-0399-4AD4-9480-250590DA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79FCB-CD0E-413C-A8EB-D8B41808FD24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3B83-50D9-4BE0-BB82-C4E057F254E8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Экология жилища и здоровь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остоянно идет процесс пылеобразования - вытираются ковровые покрытия, осыпается и вышаркивается краска, с улицы попадает пыль и выхлопные газы автомобилей, люди и домашние животные теряют волосы, кожный эпителий, перхоть и т.д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ыль является транспортным средством для распространения бактерий и вирусов и способствует возникновению и распространению эпидемий.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ь в квартир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3040" r="0" b="3040"/>
          <a:stretch/>
        </p:blipFill>
        <p:spPr>
          <a:xfrm>
            <a:off x="324000" y="1844640"/>
            <a:ext cx="2879640" cy="4464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48000" y="2133720"/>
            <a:ext cx="54007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Знаете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ли Вы о том, что в стандартной трехкомнатной квартире в год образуется до 40 кг. пыли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Человек за сутки вдыхает до 12 тыс. литров воздуха, в одном литре которого содержится до 500 тыс. пылинок.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В 28 гр. пыли живет до 42 000 пылевых клещей, продукты жизнедеятельности которых являются самыми мощными из известных на сегодняшний день аллергенов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Клещ может стать постоянным спутником человека на протяжении всей его жизни. Основным питанием для клеща являются омертвевшие клетки кожи. В год человек теряет до двух кг. кожи, основная масса которой остается на постельном белье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Основную опасность для человека представляют как сами клещи, так и продукты его жизнедеятельности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70% аллергических заболеваний дыхательных путей обусловлены присутствием именно этих веществ. 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00000" y="2060640"/>
            <a:ext cx="6443640" cy="445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збавится от клеща обычными средствами практически невозможно. Губительными для него являются только природные условия - обогащенный озоном воздух, ультрафиолетовое излучение и естественный уровень ионизации воздуха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6654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Силикоз лёгкого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64000" y="1916280"/>
            <a:ext cx="5045040" cy="42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Это профессиональная болезнь шахтеров, аналогичные изменения наблюдаются у жителей городов с высоким уровнем загрязнения воздуха выбросами промышленных предприятий, выхлопными газами автомобилей и сжиганием угля на ТЭЦ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4960" y="1916280"/>
            <a:ext cx="318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Чистый воздух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Высоко ионизированный воздух горных курортов способствовал в начале 20 века излечению от начальных форм туберкулеза, а в настоящее время рекомендуется для лечения и уменьшения приступов бронхиальной астмы и дыхательной аллергии и т.д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Очевидно - дышать чистым и свежим воздухом полезно, люди, работающие на свежем воздухе, бодрее и здоровее работающих в закрытых и плохо проветриваемых помещениях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 Narrow"/>
              </a:rPr>
              <a:t>Вопросы для самопроверки:</a:t>
            </a:r>
            <a:endParaRPr b="0" lang="en-US" sz="44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9776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сточники загрязнения воздуха на улице и в помещении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етоды борьбы с пылью в домашних условиях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икроклимат жилища и его воздействие на здоровье человека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Практическая работа: «Измерение температуры, влажности воздуха в жилых помещениях.»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9:08:09Z</dcterms:created>
  <dc:creator>01</dc:creator>
  <dc:description/>
  <dc:language>en-US</dc:language>
  <cp:lastModifiedBy>uchitel</cp:lastModifiedBy>
  <dcterms:modified xsi:type="dcterms:W3CDTF">2007-01-20T06:45:12Z</dcterms:modified>
  <cp:revision>6</cp:revision>
  <dc:subject/>
  <dc:title>Слайд 1</dc:title>
</cp:coreProperties>
</file>